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CB70-77FB-4886-99B7-12544290F4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D258-E936-4546-BEDF-9B0D643D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E6825-0E7B-4016-9005-5F4ECB17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E63A-3E24-4E16-8A2A-7A59A35DEE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5287-D579-4446-B5EF-610F2657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14CA-698D-4416-BBC8-8F6AD60C66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2F18-43A6-4883-9B86-657C506A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513-1EA6-4647-934D-BF7C8C7E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1D8-B8AF-40EF-B799-A7E5BC20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87F1-2F49-4DFF-8C22-2217DA7E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41C1-C180-4A1F-93E1-C7681B69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6306-C08B-4863-ABD9-B916500E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8EA-2737-4181-9EE9-8EC9CDC5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BBF-A5D1-4A9A-A99D-9C97C8FC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DFC1-E919-4041-B866-AFC7F3AF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C94-0EE9-46A2-B0B6-907593FA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4B8B-FA3E-4B2F-8ACC-6F611B02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296-09F2-46FE-A410-3B8EBCA8F2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7F5CBD-E7B5-434D-A041-2ACCAE76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FCE497-5C9C-4392-B6A0-1002534A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A2DE70-DD7B-439A-8448-8C0F0CE2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4C3F-94FC-4CC1-AF6A-26C6CD23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7789DB-5C34-4DC3-BDBD-9D717F29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4ABDDD-41CB-4ED9-B276-842FF6D5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46DA61-C8A5-4C8C-B0EB-A0AAA055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5C6892-81DA-4A94-B657-5A085FF4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14E343-9745-4261-8EC6-8163D1AD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365213-CB25-47A3-8BCB-9024D5CE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20E1C6-3102-4112-88C5-9E0B32A4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7D8D37-D8FB-4CD8-8820-2F67033F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033326-198F-4B4E-ADB6-B1F36B08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D92EAE-C391-46E2-B697-262F10BA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CC02-8B78-4B20-B165-BCC7B415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7CC22D-E96F-4A1E-8C6C-C6D04081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F256AF-05A4-4904-A394-EF287D56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8CF7F9-D1B4-4938-BDD7-B752F2BD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E70DCB-95CE-414E-A3C5-93079842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0DB43F-A874-4448-9AEE-B4AC5A10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B9FB88-5A06-4578-B3C0-8BE3FA73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B506FC-2664-4620-B6C9-82093E0B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AF64C0-6329-4EB2-8F48-D2708C83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5EDC2F-8D76-44F6-805C-47777C59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74E606-7A53-477F-8058-8C99C6BF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A0C6-CB9D-4AF4-96E8-44E5075D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19E640-C965-47E0-AADB-322E9070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F929ED-941C-4371-8D50-AE2C6F73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D743F7-0209-4AE1-9C16-39EC410A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CAC858-C97C-43D6-A96E-2C3305C6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6FB70C-39A3-46D0-A633-D2E90669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10F3F5-DA3E-4A79-995B-C5E07B37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B4AFC0-044A-44FE-9477-129F626C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54ACFD-9E98-476C-AD73-2407572E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74792C-B496-4A95-AF85-DFBCE0BD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69170F-6CDA-451C-84FC-FA52D72A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D143-740F-474F-B9C7-45B4317F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B3D5F0-C602-460E-BA5E-D48BA71D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95E841-0B7F-4F17-A8B4-0DBD8079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6180A4-22D7-4154-BD69-BA45F9BB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759004-CA8F-499A-8E12-188ED643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428352-3357-4E32-A705-A7C1DADB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844D8B-9B67-4639-913E-86B8AEAB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7B9BDF-03AC-4850-B554-A82128EA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FDEBF5-599C-430E-8558-19AC72C6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9A37A6-27F4-4C27-B930-2981F4C7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B7C65A-E9BF-4A4D-97D7-044AD324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E7E8-A5A5-48EC-9645-7B334133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7D5744-94BA-4A31-AF0A-1621FA35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EFF019-A6CF-4DF3-A3AC-7C4662EA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46DEB8-7400-42FA-B415-41399A0B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F7933B-2AA3-411C-A214-B05E09D4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29BDE0-3F9F-437F-B3D6-F17C1E2C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07EBE9-B935-4E4B-98C1-C094D9FC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68E827-2C65-4EEB-9094-A65576DC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B59771-846E-4071-8129-9B0573B5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0FA63D-E6BC-4BE4-A854-C49952BB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F936A2-4945-4600-B166-A8842AC7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4244-8408-4CE0-8DC2-464A1A60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B4B471-B343-49A4-BB80-B7A1E60B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0FD114-7BBB-4A12-84A5-4E696973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59D657-CD15-4F1B-B221-52666270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E22A42-4B74-457B-AC65-8765A5D8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20EF6F-EBD5-43F3-9F7B-8250CA0A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5300BC-FFC7-49C8-A9EF-B7249D41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01E636-B9AC-4DA9-8D20-47D4C72B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0D38-1D8A-4AD5-8A79-570507608A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2FDB-B4D2-4BCA-9244-29438FC9B8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68DF-7D66-455E-98A1-62BB9A8281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2137-B3F5-4620-8558-B2BA9579CB4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0EEE-357B-4939-B6A0-69100658F6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1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8A99-B0FE-4679-AFD8-9245FEFD6C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000A-BF47-4A0F-9F43-D4875DE68C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954E-0813-4CC1-B8C5-F05E0BED2E1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B96F-082D-48BA-A9B3-BF35081D08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同部位、程度的脊髓损伤产生不同类型的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觉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具体表现为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完全性损伤：感觉障碍呈不完全性丧失，其范围和部位差异明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完全性损伤：损伤平面以上可有痛觉过敏；损伤平面以下感觉完全丧失，包括肛门周围的粘膜感觉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F9B9-A97D-48A8-ADBF-6A7D71FBDF6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921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障碍还可以出现在以下这些症状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250920" y="4797360"/>
            <a:ext cx="8497800" cy="1143000"/>
            <a:chOff x="250920" y="4797360"/>
            <a:chExt cx="8497800" cy="1143000"/>
          </a:xfrm>
        </p:grpSpPr>
        <p:sp>
          <p:nvSpPr>
            <p:cNvPr id="421" name="AutoShape 3"/>
            <p:cNvSpPr/>
            <p:nvPr/>
          </p:nvSpPr>
          <p:spPr>
            <a:xfrm>
              <a:off x="250920" y="4797360"/>
              <a:ext cx="198108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疼       痛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AutoShape 3"/>
            <p:cNvSpPr/>
            <p:nvPr/>
          </p:nvSpPr>
          <p:spPr>
            <a:xfrm>
              <a:off x="2484360" y="4797360"/>
              <a:ext cx="187164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异常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AutoShape 3"/>
            <p:cNvSpPr/>
            <p:nvPr/>
          </p:nvSpPr>
          <p:spPr>
            <a:xfrm>
              <a:off x="457200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丧失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3"/>
            <p:cNvSpPr/>
            <p:nvPr/>
          </p:nvSpPr>
          <p:spPr>
            <a:xfrm>
              <a:off x="673272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分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5" name="AutoShape 11"/>
          <p:cNvSpPr/>
          <p:nvPr/>
        </p:nvSpPr>
        <p:spPr>
          <a:xfrm>
            <a:off x="468360" y="2565360"/>
            <a:ext cx="7848720" cy="1008000"/>
          </a:xfrm>
          <a:prstGeom prst="flowChartTerminator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Freeform 14"/>
          <p:cNvSpPr/>
          <p:nvPr/>
        </p:nvSpPr>
        <p:spPr>
          <a:xfrm flipH="1" rot="6229800">
            <a:off x="1223640" y="3607920"/>
            <a:ext cx="1006200" cy="1079640"/>
          </a:xfrm>
          <a:custGeom>
            <a:avLst/>
            <a:gdLst>
              <a:gd name="textAreaLeft" fmla="*/ -360 w 1006200"/>
              <a:gd name="textAreaRight" fmla="*/ 1006200 w 1006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AutoShape 16"/>
          <p:cNvSpPr/>
          <p:nvPr/>
        </p:nvSpPr>
        <p:spPr>
          <a:xfrm>
            <a:off x="320364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AutoShape 16"/>
          <p:cNvSpPr/>
          <p:nvPr/>
        </p:nvSpPr>
        <p:spPr>
          <a:xfrm>
            <a:off x="529272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Freeform 15"/>
          <p:cNvSpPr/>
          <p:nvPr/>
        </p:nvSpPr>
        <p:spPr>
          <a:xfrm flipH="1" flipV="1" rot="3382800">
            <a:off x="7002360" y="3732840"/>
            <a:ext cx="1336680" cy="871200"/>
          </a:xfrm>
          <a:custGeom>
            <a:avLst/>
            <a:gdLst>
              <a:gd name="textAreaLeft" fmla="*/ -360 w 1336680"/>
              <a:gd name="textAreaRight" fmla="*/ 1336680 w 1336680"/>
              <a:gd name="textAreaTop" fmla="*/ 360 h 871200"/>
              <a:gd name="textAreaBottom" fmla="*/ 871920 h 8712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293E-B5BE-48C0-B4C7-DC236CA09D1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排尿、排便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功能障碍  主要表现为膀胱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功能障碍  主要表现为肛门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"/>
          <p:cNvSpPr/>
          <p:nvPr/>
        </p:nvSpPr>
        <p:spPr>
          <a:xfrm>
            <a:off x="395280" y="1341360"/>
            <a:ext cx="817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知识链接</a:t>
            </a:r>
            <a:r>
              <a:rPr b="0" i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便携式膀胱</a:t>
            </a:r>
            <a:r>
              <a:rPr b="1" lang="en-US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超在脊髓损伤患者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脊髓损伤的患者往往伴有尿潴留，所以对患者进行残余尿量的测定是非常重要的环节，以往主要采取导尿术、腹部叩击法、放射性扫描、辅助检查室超声波检查法等方法检查，对患者具有一定的损伤性和不方便性，便携式膀胱</a:t>
            </a: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超可以克服这些检查的缺点，具有无痛性、安全、简便、舒适，目前在临床上应用广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AFC8-6C47-4AD8-B23D-0933B5D2BA2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74872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自主性反射障碍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自主性反射障碍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utonomic dysreflex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一种急性的交感兴奋综合征，常发生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T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以上的脊髓损伤患者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1908000" y="4346640"/>
            <a:ext cx="7020000" cy="1584360"/>
          </a:xfrm>
          <a:prstGeom prst="cloudCallout">
            <a:avLst>
              <a:gd name="adj1" fmla="val -32925"/>
              <a:gd name="adj2" fmla="val -7905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771640" y="44370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其特征为严重的高血压、搏动性头痛、视物不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心动过缓、损伤平面以上出汗、潮红和鼻塞等症状。</a:t>
            </a:r>
            <a:r>
              <a:rPr b="1" lang="zh-CN" sz="1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90A7-311B-4032-AE30-03CBF02055C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脊髓休克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shock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指脊髓受到外力损伤后，脊髓与大脑高级中枢的联系中断，损伤平面以下所有神经反射消失，肢体呈完全性迟缓性瘫痪，出现尿潴留、便失禁等症状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977E-D14C-4D32-8423-74183EBB8B0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893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六）其他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交感神经损伤，患者可出现排汗功能、血管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和体温调节障碍。除此之外，患者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还可出现心动过缓、直立性低血压、皮肤脱屑、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水肿、指甲松脆和角化过度等症状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235C-A088-4C39-8BAD-60E0F84B814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23640" y="1857240"/>
            <a:ext cx="85690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的神经功能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损伤平面的评定：损伤平面是指保留身体双侧正常运动和感觉功能的最低脊髓节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755640" y="4221000"/>
            <a:ext cx="7632720" cy="10688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运动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motor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感觉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sensory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5F40-974B-4094-B4DA-D8F927F4A2E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损伤严重程度评定  常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损伤分级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可表现为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完全性损伤时，即无感觉也无运动功能，可有部分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能保留区（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one of partial preservation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PP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，但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不完全性损伤时保留部分感觉和（或）运动功能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保留区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功能保留区只适用于完全性脊髓损伤患者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270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6820-7029-4635-B0DF-F773C2F1926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的评定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阳性表现：损伤平面以下所有神经反射消失，肢体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呈完全性迟缓性瘫痪、尿潴留、便失禁。阳性体征：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射消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结束表现：损伤水平以下出现任何感觉、运动或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肉张力升高和痉挛。阳性体征：球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射再出现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A972-E456-4D43-AD3A-6EB9BCD2ABB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的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评分：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ISCO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运动评分法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痉挛评定：目前多采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hworth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量表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的评定  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感觉指数评分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ensory index score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I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选择身体两侧共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8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皮区关键点，在每个关键点上检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种感觉，即针刺觉和轻触觉，按三个等级分别评定打分：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0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缺失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异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正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NT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无法检查。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日常生活活动能力评估  截瘫患者可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MB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量表进行评定；四肢瘫患者用四肢瘫功能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uadriplegic index of function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IF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、社会状况评估  脊髓损伤患者因发病急、病情重，会产生严重的心理负担及社会压力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平面和功能预后关系的评定  对完全性脊髓损伤的患者，根据损伤平面预测其功能恢复情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517680" y="2276280"/>
            <a:ext cx="7534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脊髓损伤患者的临床表现，常用的康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复护理诊断如下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活动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失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清理呼吸道无效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87640" y="3499920"/>
            <a:ext cx="392436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焦虑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受伤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感染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皮肤完整性受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468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4716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B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1280" y="1992240"/>
            <a:ext cx="8137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该患者经保守治疗病情稳定，颅骨牵引已经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周。康复护理评估：腕背伸级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肱三头肌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天排便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次，且粪便干结，尿失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该患者应采取哪些康复护理措施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820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患者现存的康复护理问题进行排序后，制定近期目标和远期目标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近期目标：①稳定患者情绪，减轻焦虑程度，帮助患者面对疾病，配合治疗和护理。②康复护理措施的实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远期目标：利用多种手段，使患者受限或丧失的功能和能力得到最大限度的恢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正确体位的摆放：正确的体位可以促进患者肢体功能恢复，有助于预防关节挛缩和压疮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仰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侧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被动活动：为防止关节挛缩和畸形，从脊髓损伤急性休克期开始，直至患者能够主动进行全关节活动范围运动均应进行被动活动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主动活动：针对患者肢体残存功能进行训练，扩大代偿功能，为日后的其他训练打好基础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体位变换：脊髓损伤患者应根据病情变换体位，一般每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小时变换一次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呼吸及排痰训练：指导患者进行呼吸训练和辅助咳嗽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43280" y="907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8072280" cy="29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概念、分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患者存在的主要功能障碍及护理评估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脊髓损伤的病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对完全性脊髓损伤患者设计康复护理方案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A8EE-1E03-45D4-B98C-37725B11B8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532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、排便的处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914400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增强肌力训练：脊髓损伤患者为了应用轮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椅、拐杖或自助器，在卧床或坐位时，要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肌力的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按照患者的肌力水平选择适宜的运动训练方式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主要训练方法为被动活动、肌肉电刺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激及生物反馈治疗；②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较大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范围的辅助、主动及器械性运动，根据患者肌力情况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调节辅助量；③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抗阻力运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动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5889240" y="4149720"/>
            <a:ext cx="159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翻身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肘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手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床上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" name="Group 15"/>
          <p:cNvGrpSpPr/>
          <p:nvPr/>
        </p:nvGrpSpPr>
        <p:grpSpPr>
          <a:xfrm>
            <a:off x="5292720" y="3789360"/>
            <a:ext cx="3022200" cy="3604680"/>
            <a:chOff x="5292720" y="3789360"/>
            <a:chExt cx="3022200" cy="3604680"/>
          </a:xfrm>
        </p:grpSpPr>
        <p:sp>
          <p:nvSpPr>
            <p:cNvPr id="489" name="AutoShape 16"/>
            <p:cNvSpPr/>
            <p:nvPr/>
          </p:nvSpPr>
          <p:spPr>
            <a:xfrm>
              <a:off x="5292720" y="3939840"/>
              <a:ext cx="3022200" cy="26488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AutoShape 17"/>
            <p:cNvSpPr/>
            <p:nvPr/>
          </p:nvSpPr>
          <p:spPr>
            <a:xfrm>
              <a:off x="5577120" y="3819960"/>
              <a:ext cx="2453760" cy="24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AutoShape 18"/>
            <p:cNvSpPr/>
            <p:nvPr/>
          </p:nvSpPr>
          <p:spPr>
            <a:xfrm flipH="1">
              <a:off x="7794360" y="3879720"/>
              <a:ext cx="943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AutoShape 19"/>
            <p:cNvSpPr/>
            <p:nvPr/>
          </p:nvSpPr>
          <p:spPr>
            <a:xfrm flipH="1">
              <a:off x="5709960" y="3879720"/>
              <a:ext cx="961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3" name="Text Box 20"/>
            <p:cNvSpPr/>
            <p:nvPr/>
          </p:nvSpPr>
          <p:spPr>
            <a:xfrm>
              <a:off x="6695280" y="3789360"/>
              <a:ext cx="175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" name="Text Box 21"/>
            <p:cNvSpPr/>
            <p:nvPr/>
          </p:nvSpPr>
          <p:spPr>
            <a:xfrm>
              <a:off x="5393160" y="4159800"/>
              <a:ext cx="28090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5" name="Freeform 12"/>
          <p:cNvSpPr/>
          <p:nvPr/>
        </p:nvSpPr>
        <p:spPr>
          <a:xfrm>
            <a:off x="3780000" y="3213000"/>
            <a:ext cx="259056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42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坐位训练：脊髓损伤患者多采用长坐位和端坐位进行平衡维持训练，包括静态平衡训练和动态平衡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转移训练：根据患者脊髓损伤平面、残存肌力及关节活动度等情况选择不同的转移方法，包括辅助转移和独立转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将训练内容与日常生活活动相结合，如进食训练在三餐时进行。②训练前做好各种准备，如辅助患者排空二便，妥善固定各种导管，以防训练中脱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③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训练过程中鼓励患者尽量自己完成所有步骤，必要时才给予协助。④让家庭成员共同参与训练过程，指导其用最恰当的方式帮助患者生活自理。⑤训练前、后观察患者身体状况和精神状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站立训练：在坐位训练完成较好后可以开始站立训练，首先进行体位适应性训练，以防止直立性低血压，站立训练过程中应注意协助患者保持脊柱的稳定性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步行训练：脊髓损伤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个月，已完成上述训练者配带矫形器进行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468360" y="73836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矫形器、辅助器具和环境改造的护理：具体包括：①指导患者及家属如何正确佩戴和使用矫形器、辅助器具和轮椅。②告之注意事项。③与医生、康复治疗师、矫形器技师、患者、家属一同对患者所处的环境进行无障碍设计和改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48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心理护理：建立良好护患关系、疏导负性情绪、帮助患者正视疾病与残疾、指导患者家属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68360" y="7048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EEC1-E495-4DE2-B971-2CA9AFE0E7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209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cord injury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C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由外伤、疾病和先天发育不良等因素引起的脊髓结构和功能的损害，造成损伤水平以下运动、感觉、自主神经功能的异常以及相应的并发症，导致不同程度的残疾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并发症的护理  多数脊髓损伤患者死于并发症，只有及时有效的防治，才能提高患者的生存质量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常见的并发症包括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102720" y="5084640"/>
            <a:ext cx="601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压疮、泌尿系感染、疼痛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下肢深静脉血栓、异位骨化等</a:t>
            </a:r>
            <a:r>
              <a:rPr b="0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3419640" y="4941720"/>
            <a:ext cx="5364000" cy="1656000"/>
          </a:xfrm>
          <a:prstGeom prst="cloudCallout">
            <a:avLst>
              <a:gd name="adj1" fmla="val -8625"/>
              <a:gd name="adj2" fmla="val -112777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424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自我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合理膳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心理调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持之以恒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回归社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5253480" y="2349360"/>
            <a:ext cx="292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学会自我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养成良好的卫生习惯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药物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加强二便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" name="Group 15"/>
          <p:cNvGrpSpPr/>
          <p:nvPr/>
        </p:nvGrpSpPr>
        <p:grpSpPr>
          <a:xfrm>
            <a:off x="4500720" y="1989000"/>
            <a:ext cx="4392000" cy="3618720"/>
            <a:chOff x="4500720" y="1989000"/>
            <a:chExt cx="4392000" cy="3618720"/>
          </a:xfrm>
        </p:grpSpPr>
        <p:sp>
          <p:nvSpPr>
            <p:cNvPr id="519" name="AutoShape 16"/>
            <p:cNvSpPr/>
            <p:nvPr/>
          </p:nvSpPr>
          <p:spPr>
            <a:xfrm>
              <a:off x="4500720" y="2145960"/>
              <a:ext cx="4392000" cy="27586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AutoShape 17"/>
            <p:cNvSpPr/>
            <p:nvPr/>
          </p:nvSpPr>
          <p:spPr>
            <a:xfrm>
              <a:off x="4914000" y="2021040"/>
              <a:ext cx="3565800" cy="250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AutoShape 18"/>
            <p:cNvSpPr/>
            <p:nvPr/>
          </p:nvSpPr>
          <p:spPr>
            <a:xfrm flipH="1">
              <a:off x="8136360" y="2083320"/>
              <a:ext cx="13680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AutoShape 19"/>
            <p:cNvSpPr/>
            <p:nvPr/>
          </p:nvSpPr>
          <p:spPr>
            <a:xfrm flipH="1">
              <a:off x="5108040" y="2083320"/>
              <a:ext cx="13968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3" name="Text Box 20"/>
            <p:cNvSpPr/>
            <p:nvPr/>
          </p:nvSpPr>
          <p:spPr>
            <a:xfrm>
              <a:off x="6575400" y="1989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4" name="Text Box 21"/>
            <p:cNvSpPr/>
            <p:nvPr/>
          </p:nvSpPr>
          <p:spPr>
            <a:xfrm>
              <a:off x="4646520" y="2373480"/>
              <a:ext cx="408204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25" name="Freeform 12"/>
          <p:cNvSpPr/>
          <p:nvPr/>
        </p:nvSpPr>
        <p:spPr>
          <a:xfrm>
            <a:off x="3348000" y="1268280"/>
            <a:ext cx="259092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病因包括：①外伤性脊髓损伤致病因素：高空坠落、交通事故和体育运动等导致脊髓受压甚至完全断裂、刀伤、枪伤等脊髓外伤。②非外伤性脊髓损伤致病因素：炎症、肿瘤、血管病变、退行性病变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主要功能包括障碍运动功能障碍、感觉功能障碍、排尿、排便功能障碍、自主性反射障碍、脊髓休克、其他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2"/>
          <p:cNvSpPr/>
          <p:nvPr/>
        </p:nvSpPr>
        <p:spPr>
          <a:xfrm>
            <a:off x="755640" y="1996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脊髓损伤急性期康复护理措施包括：正确体位的摆放、被动活动、主动活动、体位变换、呼吸及排痰训练、排尿、排便的处理。恢复期康复护理措施包括：运动功能训练、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ADL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能力训练、矫形器、辅助器具和环境改造的护理、心理护理。另外，还需进行并发症的预防和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指导患者进行自我管理、调整饮食、合理膳食、调节心理、坚持康复训练、回归社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650E-CAD4-47F9-B729-65EF638797C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致病因素分为外伤性脊髓损伤和非外伤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损伤程度可分为完全性脊髓损伤和不完全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病因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高空坠落、交通事故和体育运动等导致脊髓受压甚至完全断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刀伤、枪伤等脊髓外伤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非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572000" y="4869000"/>
            <a:ext cx="41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炎症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肿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血管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退行性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Freeform 12"/>
          <p:cNvSpPr/>
          <p:nvPr/>
        </p:nvSpPr>
        <p:spPr>
          <a:xfrm rot="1061400">
            <a:off x="5940000" y="4005000"/>
            <a:ext cx="1800360" cy="8697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15"/>
          <p:cNvGrpSpPr/>
          <p:nvPr/>
        </p:nvGrpSpPr>
        <p:grpSpPr>
          <a:xfrm>
            <a:off x="4643280" y="4724280"/>
            <a:ext cx="3814560" cy="3733920"/>
            <a:chOff x="4643280" y="4724280"/>
            <a:chExt cx="3814560" cy="3733920"/>
          </a:xfrm>
        </p:grpSpPr>
        <p:sp>
          <p:nvSpPr>
            <p:cNvPr id="400" name="AutoShape 16"/>
            <p:cNvSpPr/>
            <p:nvPr/>
          </p:nvSpPr>
          <p:spPr>
            <a:xfrm>
              <a:off x="4643280" y="4815720"/>
              <a:ext cx="3814560" cy="160776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17"/>
            <p:cNvSpPr/>
            <p:nvPr/>
          </p:nvSpPr>
          <p:spPr>
            <a:xfrm>
              <a:off x="5002200" y="4743720"/>
              <a:ext cx="3097080" cy="14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18"/>
            <p:cNvSpPr/>
            <p:nvPr/>
          </p:nvSpPr>
          <p:spPr>
            <a:xfrm flipH="1">
              <a:off x="7800840" y="4779000"/>
              <a:ext cx="11880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flipH="1">
              <a:off x="5169960" y="4779000"/>
              <a:ext cx="12132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20"/>
            <p:cNvSpPr/>
            <p:nvPr/>
          </p:nvSpPr>
          <p:spPr>
            <a:xfrm>
              <a:off x="6432120" y="4724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1"/>
            <p:cNvSpPr/>
            <p:nvPr/>
          </p:nvSpPr>
          <p:spPr>
            <a:xfrm>
              <a:off x="4801680" y="5223960"/>
              <a:ext cx="35452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2D53-7794-478C-8E0A-26F01EA5E0C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68000" y="2249640"/>
            <a:ext cx="8429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流行病学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各国研究资料表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0%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患者年龄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以下的青年人，男女比例为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: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且发病率呈逐年上升的趋势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A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赵某，男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，建筑工人，因工作不慎从高处坠落，入院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小时，临床诊断：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颈椎骨折脱位，脊髓损伤。患者入院后意识清晰，语言流利，生命体征平稳，无其他脏器损伤。查体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:C6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平面以下感觉缺失、四肢瘫、肌张力低、腱反射消失、排尿、排便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该患者存在哪些功能障碍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对该患者应进行哪些康复护理评估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2D5B-DBDF-46F6-B678-7220FA8FEB8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运动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根据损伤部位不同，可表现为不同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张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反射功能的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27:03Z</dcterms:modified>
  <cp:revision>11</cp:revision>
  <dc:subject/>
  <dc:title>第一章 儿科疾病的护理</dc:title>
</cp:coreProperties>
</file>